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F65-9C04-4494-B4D4-E3672207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325-CB2B-4531-A6AF-B9A3C2F7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206-C108-48E8-B216-F4729AE0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931-0416-474E-8426-7B395DCC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F46A-D1E2-4E34-A39B-5546A0C7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0276-4AE4-472B-B28F-4836043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5BF9-6DA3-4C94-802A-28063F3D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499A-3AD4-423D-B5B3-FDD428F3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56CB-AFFF-42BC-842E-69DB51C1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34B2-2079-47F2-8B42-2549F48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8AB3-2D07-471C-9E8B-DFE0993C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D7E-6B4A-4E11-B3C6-898E1DA1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DE52-2E24-481D-96B9-891407D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0C3F-9E88-47A6-9F0A-2487178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23B0-47A5-414D-A4B1-18364CA0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AD3B-44C3-48CF-842E-1FF3A881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E042-0D99-4004-BD8F-42F201A4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CB3-22F2-4E9C-ACB8-A7249B0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DBB-604E-464B-B6C7-38E15BC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89C-A3B2-497B-BDB7-7B2AD6E8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4F5-8CEA-450F-B96B-5938FA49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687-A0D6-47AF-A24C-4CB3247E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D74-7FAE-4A46-8123-E40C4B5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F65-2565-4C13-8A59-37B8EA8C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6A02-D883-418B-85D8-EE63AE5AAB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E414-1D77-4547-B8A8-F19D849482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Welcome to Our Classroom!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Rouse &amp; Mrs. Bissette-Russ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ecta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give their very be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r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thing that we do and believe that they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have positive attitu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respect each other, their teachers, and themsel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grow and show progre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pecial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al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 L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Guidan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53118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Any Questions Yet??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sences/Tardi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Recognition for attend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sence Excuse No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ctor’s Appoint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ce of Being Here on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-up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-up Te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all!    776-0506   ex.120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ransporta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 Ri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in Transpor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ving E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ne smoothly thus far…Thank You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S!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Contra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 Home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lling Home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Homework (coming so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tra Sheet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ekly Progress Reports and Test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5667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ease sign and return the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602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R and A-Mat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ready begun test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AR books throughout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vidual Go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en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ed A-Math tod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ny questions?? We’re almost finished…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ast minute things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 Web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Grade Pl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lth-A-Rama – October 3r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ift St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e Cream D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nack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nte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Our Daily Schedu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:00-8:20 – Arrive, Unpack, Morning Work, and Announc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:20-8:25 – Restroom Break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:25-8:45 – Communication Skills Lesson: Spelling, Grammar, et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:45-9:30 – Specia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:30-10:00 – Writing Less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omic Sans MS"/>
              </a:rPr>
              <a:t>Thank you for coming!</a:t>
            </a:r>
            <a:endParaRPr b="0" lang="en-US" sz="1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0:00-10:15 – AR Read Aloud &amp; Snack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0:15-11:20 – Reading Group &amp; Centers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1:20-11:55 – Lunch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1:55-12:25 – Recess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2:25-1:30 – Math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:30-2:00 – Social Studies/Science Block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2:00-2:30 – AR Time &amp; Agendas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2:32 – Dismiss From School 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assroom Rul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hands, feet and other objects to yourse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good choi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others and propert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yourse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 and follow dir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good man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-------------------------------------------------------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follow rules because…we want to learn, stay in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, stay safe, help others, and stay out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u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REWARDS!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or the Individua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al Pra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ckets in the Bas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 Passes/Ice Cre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ckers on Papers and AR Fol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44476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wards for the Clas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al Pra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tle Fuzzies” in the J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 Tok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Snacks from Mrs. Rouse &amp; Mrs. Bissette-Russel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ur Class is a TEA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sequences </a:t>
            </a:r>
            <a:r>
              <a:rPr b="0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Verbal Warn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Name goes on the 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on the green l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walk 5 laps outside before they can pl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on the yellow l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a note writt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student explaining their actions to their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on the red l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A phone call to parents and an office refer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686160" y="-53388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ny Questions?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29120" y="2971800"/>
            <a:ext cx="2965320" cy="356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, Procedures, Procedures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bout pencil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I get their atten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do when you are finished with your wor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line up to leave the roo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everyone have a job to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tle” pleas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we talk in the lunchroo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9:48:43Z</dcterms:created>
  <dc:creator>Technology Services</dc:creator>
  <dc:description/>
  <dc:language>en-US</dc:language>
  <cp:lastModifiedBy>rrouse</cp:lastModifiedBy>
  <dcterms:modified xsi:type="dcterms:W3CDTF">2007-09-10T20:23:40Z</dcterms:modified>
  <cp:revision>30</cp:revision>
  <dc:subject/>
  <dc:title>Welcome to Our Classroom!</dc:title>
</cp:coreProperties>
</file>